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8FD60-E1F9-4967-A8F7-FD3A5DF1A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A9FE8-8B93-4051-9B57-542B2A4AD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62CFE-EC57-45C0-B993-83CE394F0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3F896-D2FE-4434-AB35-603CB8D96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7E2C3-7871-40FB-A1CC-59617B5D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FE3A1-FD6F-48EE-9266-B8E64584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59D3E-4C51-482C-8928-636F4A553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8B315-6B10-491C-9EC6-C5E5B14EA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A472C-468D-47C4-BE16-92A4C7C1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24ECE-4BFB-4735-B9C3-E95672517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D233-A47D-4FC3-9C78-C57FE269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CE3C-9997-4CF9-841B-8C4F18CBB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0593-D9ED-416B-8394-1CC4B856A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URKIBIDE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gati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tan aritzen di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ndorio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hitur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Nola hartzen ditug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7"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8"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TAN ARITZEN DIRA</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51"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Kristen ITC"/>
              </a:rPr>
              <a:t>Lehen aipatu dugun bezala inmigranteek, gehienbat, lan bila etortzen dira Espainiara diru premia daukatelako. Horregatik, eskulan, garbiketa-lanak etab. ontzat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8"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1"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24T12:37:47Z</dcterms:modified>
  <cp:revision>8</cp:revision>
  <dc:subject/>
  <dc:title>Diapositiva 1</dc:title>
</cp:coreProperties>
</file>